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777839"/>
        <c:axId val="84817233"/>
      </c:barChart>
      <c:catAx>
        <c:axId val="79777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17233"/>
        <c:crosses val="autoZero"/>
        <c:auto val="1"/>
        <c:lblAlgn val="ctr"/>
        <c:lblOffset val="100"/>
        <c:noMultiLvlLbl val="0"/>
      </c:catAx>
      <c:valAx>
        <c:axId val="848172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77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2F9-DFB2-47CA-86D3-FB3C99D9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4993-2FF5-4E19-9D0A-C1684407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68A-BCD4-43AC-A309-F38F1326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C082-07C7-4AC6-A6D7-68084326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0F21-B3EF-4667-A292-CDACABCB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B3E-B471-47A8-B548-E8816743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4A6D-F19C-4A11-8027-48D16FA7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5719-7123-4E52-85F4-B167D6B6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D8F2-A158-4A5F-B54F-79AC0BAA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1500-590D-4FCE-BFBB-56A3C8DA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4AD-AC2E-48D6-85F0-623CCDAE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475-D4B5-4584-8323-3D08FDAF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5EB8A-B250-400A-BD07-8B5AE257D9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