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97829"/>
        <c:axId val="82463912"/>
      </c:barChart>
      <c:catAx>
        <c:axId val="36897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63912"/>
        <c:crosses val="autoZero"/>
        <c:auto val="1"/>
        <c:lblAlgn val="ctr"/>
        <c:lblOffset val="100"/>
        <c:noMultiLvlLbl val="0"/>
      </c:catAx>
      <c:valAx>
        <c:axId val="82463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97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02C-7C18-4E05-90A0-CBF20F58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940-4A6F-4F4B-B498-1B91EA0B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54F-970E-4ED1-AFEE-8A71610D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953-292F-4289-86BF-3F91E6E2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B71-EA9E-4CB7-8561-2B71AB99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FD8-DEBF-49D8-BC2E-8CBE54D3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11E-7D63-44C1-AF40-55AEBDDA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857-6B1E-4EF8-B9DA-7BBB580F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9AA-971F-40D2-970C-1A5257D8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8BE-0087-410E-90CF-BADECBE6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92F-C45C-4AD9-8C1C-C72DA2A7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0AF-ECE5-4A89-9A77-AA986674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D3CA6-F3C4-4943-A50E-EB9DEDE134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