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2745"/>
        <c:axId val="77756208"/>
      </c:barChart>
      <c:catAx>
        <c:axId val="7112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56208"/>
        <c:crosses val="autoZero"/>
        <c:auto val="1"/>
        <c:lblAlgn val="ctr"/>
        <c:lblOffset val="100"/>
        <c:noMultiLvlLbl val="0"/>
      </c:catAx>
      <c:valAx>
        <c:axId val="77756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2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35B-9048-4241-87E0-72AB5757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566-B030-425F-AD06-C760FEBD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C51-687F-4275-9807-68882EC7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9F2-749A-4CF1-9AB7-375967C9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BAD-3B3B-4224-BE89-03EFB9EE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587-6C88-4595-A198-330D28CE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A89-CC66-4C9C-A42B-5DF33CA6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558-CB46-4453-977A-D0D9DE3E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3F1-714B-4231-AA42-B7067B2B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C80-B007-4D0F-B377-235BCDE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D9E-4F61-420D-BD29-E21D462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EB2-5BA2-4CFF-B706-3DF596DE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4C89F-4B92-4FD4-BCA0-CE9E8544B7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