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11584"/>
        <c:axId val="44391503"/>
      </c:barChart>
      <c:catAx>
        <c:axId val="73911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91503"/>
        <c:crosses val="autoZero"/>
        <c:auto val="1"/>
        <c:lblAlgn val="ctr"/>
        <c:lblOffset val="100"/>
        <c:noMultiLvlLbl val="0"/>
      </c:catAx>
      <c:valAx>
        <c:axId val="44391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11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F81-C790-42AF-A265-E6504E4C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334-86F9-439A-81A5-A507059F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04D-3CD6-4225-9573-6E445C65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D80-56EA-4E52-A0C5-087311DE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4D6-1F19-4366-B7CC-AAF72414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902-265F-457C-933A-6F2B301A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C73-C792-4373-9EFF-D5E2C830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A1A-E420-4D9E-AFE2-B70D6CB0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CF2-5269-4E20-9197-F0A257C4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4EA-1233-4060-8629-36F26BAA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1C2-8B1C-4498-B443-61FFD72B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D8E-9AF6-45E0-8F38-2511C701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E9F15-2B1B-47BA-8161-6794CFDCAF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